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A2C2-A34E-462E-B462-B089B34D4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7DE5-9336-4761-9A65-9D681CF32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2848-CEED-4C90-9382-571CE9739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795B-0862-43A1-8D42-2A1E5FCCD8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DD32-A0E3-4D46-AD07-29FBD2F42D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3E83-A7D8-48FF-B946-7A4C553C1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5F69-45B4-47A3-8735-68C4796C9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B550-E7D6-4151-960A-81DB461CF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7A46-4F0A-4D4D-8B9E-91851F1E9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2D72-3F05-4336-83AE-7D348C032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58CB-CBAB-456E-BA82-8B4DC4A2D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7D10-E50A-4AA2-A0F9-1BE80F578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3885-287F-4551-96DF-17B71A28B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57200" y="990720"/>
            <a:ext cx="5410080" cy="3751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whether you have mastered the learning objectives for this CSS Overview less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the best answer to the following questions or enter your answer in the spac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your answers by clicking on the next page arrow symb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rcRect l="0" t="328" r="7546" b="19936"/>
          <a:stretch/>
        </p:blipFill>
        <p:spPr>
          <a:xfrm>
            <a:off x="5867280" y="990720"/>
            <a:ext cx="3148200" cy="37335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029200"/>
            <a:ext cx="7162560" cy="9169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:  BEFORE YOU BEGIN, YOU MUST CLICK ON THE POWERPOINT SLIDE SHOW SYMBOL AT THE BOTTOM LEFT CORNER OF YOUR COMPUTER SCRE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848720" y="5105520"/>
            <a:ext cx="685440" cy="685080"/>
            <a:chOff x="7848720" y="5105520"/>
            <a:chExt cx="685440" cy="685080"/>
          </a:xfrm>
        </p:grpSpPr>
        <p:grpSp>
          <p:nvGrpSpPr>
            <p:cNvPr id="45" name=""/>
            <p:cNvGrpSpPr/>
            <p:nvPr/>
          </p:nvGrpSpPr>
          <p:grpSpPr>
            <a:xfrm>
              <a:off x="7848720" y="5105520"/>
              <a:ext cx="685080" cy="685080"/>
              <a:chOff x="7848720" y="5105520"/>
              <a:chExt cx="685080" cy="685080"/>
            </a:xfrm>
          </p:grpSpPr>
          <p:sp>
            <p:nvSpPr>
              <p:cNvPr id="46" name=""/>
              <p:cNvSpPr/>
              <p:nvPr/>
            </p:nvSpPr>
            <p:spPr>
              <a:xfrm>
                <a:off x="8191080" y="55620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962840" y="5790600"/>
                <a:ext cx="456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48720" y="5105520"/>
                <a:ext cx="685080" cy="45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7848720" y="5105520"/>
              <a:ext cx="685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67160" y="5271480"/>
              <a:ext cx="399960" cy="83520"/>
            </a:xfrm>
            <a:custGeom>
              <a:avLst/>
              <a:gdLst/>
              <a:ahLst/>
              <a:rect l="l" t="t" r="r" b="b"/>
              <a:pathLst>
                <a:path w="168" h="35">
                  <a:moveTo>
                    <a:pt x="8" y="33"/>
                  </a:moveTo>
                  <a:cubicBezTo>
                    <a:pt x="60" y="0"/>
                    <a:pt x="0" y="29"/>
                    <a:pt x="51" y="33"/>
                  </a:cubicBezTo>
                  <a:cubicBezTo>
                    <a:pt x="71" y="35"/>
                    <a:pt x="90" y="28"/>
                    <a:pt x="110" y="26"/>
                  </a:cubicBezTo>
                  <a:cubicBezTo>
                    <a:pt x="135" y="18"/>
                    <a:pt x="145" y="21"/>
                    <a:pt x="168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543800" y="6248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066680"/>
            <a:ext cx="8077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Which of the following statements about  forward logistics bases (FLBs) is not corr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ers to the geographic area on the gr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B may be occupied by the forward logistics element (FL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B often becomes the location of the new B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B includes the equipment, personnel, and supplies that are echeloned to a forward location to provide continuous support during fast moving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Bs are typically under control of the S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4419720"/>
            <a:ext cx="8001000" cy="228852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The following statement about FLBs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LB includes the equipment, personnel, and supplies that are echeloned to a forward location to provide continuous support during fast moving oper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tement actually describes a forward logistics element (F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#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0666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What type of LOGPAC operation is shown by this diagr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1523880"/>
            <a:ext cx="6095880" cy="4532400"/>
            <a:chOff x="304920" y="1523880"/>
            <a:chExt cx="6095880" cy="4532400"/>
          </a:xfrm>
        </p:grpSpPr>
        <p:pic>
          <p:nvPicPr>
            <p:cNvPr id="242" name="Picture 7" descr=""/>
            <p:cNvPicPr/>
            <p:nvPr/>
          </p:nvPicPr>
          <p:blipFill>
            <a:blip r:embed="rId1"/>
            <a:srcRect l="2873" t="3093" r="5205" b="7158"/>
            <a:stretch/>
          </p:blipFill>
          <p:spPr>
            <a:xfrm>
              <a:off x="304920" y="1523880"/>
              <a:ext cx="6095880" cy="45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 txBox="1"/>
            <p:nvPr/>
          </p:nvSpPr>
          <p:spPr>
            <a:xfrm>
              <a:off x="304920" y="1523880"/>
              <a:ext cx="6095880" cy="453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800000"/>
                </a:buClr>
                <a:buSzPct val="15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705720" y="1676520"/>
            <a:ext cx="22096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gate Re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Station Re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PAC with Combat Log Pa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Tailg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6019920"/>
            <a:ext cx="5257800" cy="105984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C.  LOGPAC with Combat Log Patrol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#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70720" y="63244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99072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 Describe the logistics support that occurs during immediate replenishment operations.  What organizations provide the support?  What logistics support is provi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70720" y="63244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2136600"/>
            <a:ext cx="6933960" cy="3426120"/>
          </a:xfrm>
          <a:custGeom>
            <a:avLst/>
            <a:gdLst/>
            <a:ahLst/>
            <a:rect l="l" t="t" r="r" b="b"/>
            <a:pathLst>
              <a:path w="4848" h="2014">
                <a:moveTo>
                  <a:pt x="4825" y="596"/>
                </a:moveTo>
                <a:cubicBezTo>
                  <a:pt x="4805" y="562"/>
                  <a:pt x="4797" y="524"/>
                  <a:pt x="4785" y="485"/>
                </a:cubicBezTo>
                <a:cubicBezTo>
                  <a:pt x="4772" y="443"/>
                  <a:pt x="4720" y="390"/>
                  <a:pt x="4698" y="364"/>
                </a:cubicBezTo>
                <a:cubicBezTo>
                  <a:pt x="4690" y="354"/>
                  <a:pt x="4685" y="340"/>
                  <a:pt x="4674" y="336"/>
                </a:cubicBezTo>
                <a:cubicBezTo>
                  <a:pt x="4634" y="321"/>
                  <a:pt x="4601" y="292"/>
                  <a:pt x="4564" y="270"/>
                </a:cubicBezTo>
                <a:cubicBezTo>
                  <a:pt x="4502" y="233"/>
                  <a:pt x="4431" y="218"/>
                  <a:pt x="4367" y="186"/>
                </a:cubicBezTo>
                <a:cubicBezTo>
                  <a:pt x="4321" y="164"/>
                  <a:pt x="4279" y="133"/>
                  <a:pt x="4233" y="112"/>
                </a:cubicBezTo>
                <a:cubicBezTo>
                  <a:pt x="4158" y="80"/>
                  <a:pt x="4073" y="66"/>
                  <a:pt x="3996" y="47"/>
                </a:cubicBezTo>
                <a:cubicBezTo>
                  <a:pt x="3906" y="24"/>
                  <a:pt x="3851" y="53"/>
                  <a:pt x="3760" y="36"/>
                </a:cubicBezTo>
                <a:cubicBezTo>
                  <a:pt x="3702" y="44"/>
                  <a:pt x="3634" y="34"/>
                  <a:pt x="3576" y="44"/>
                </a:cubicBezTo>
                <a:cubicBezTo>
                  <a:pt x="3535" y="67"/>
                  <a:pt x="3481" y="39"/>
                  <a:pt x="3436" y="47"/>
                </a:cubicBezTo>
                <a:cubicBezTo>
                  <a:pt x="3400" y="64"/>
                  <a:pt x="3370" y="71"/>
                  <a:pt x="3333" y="84"/>
                </a:cubicBezTo>
                <a:cubicBezTo>
                  <a:pt x="3317" y="89"/>
                  <a:pt x="3286" y="103"/>
                  <a:pt x="3286" y="103"/>
                </a:cubicBezTo>
                <a:cubicBezTo>
                  <a:pt x="3196" y="182"/>
                  <a:pt x="3079" y="257"/>
                  <a:pt x="2970" y="289"/>
                </a:cubicBezTo>
                <a:cubicBezTo>
                  <a:pt x="2881" y="343"/>
                  <a:pt x="2812" y="331"/>
                  <a:pt x="2702" y="336"/>
                </a:cubicBezTo>
                <a:cubicBezTo>
                  <a:pt x="2529" y="362"/>
                  <a:pt x="2618" y="358"/>
                  <a:pt x="2434" y="345"/>
                </a:cubicBezTo>
                <a:cubicBezTo>
                  <a:pt x="2426" y="343"/>
                  <a:pt x="2373" y="332"/>
                  <a:pt x="2363" y="327"/>
                </a:cubicBezTo>
                <a:cubicBezTo>
                  <a:pt x="2354" y="323"/>
                  <a:pt x="2348" y="312"/>
                  <a:pt x="2339" y="308"/>
                </a:cubicBezTo>
                <a:cubicBezTo>
                  <a:pt x="2291" y="287"/>
                  <a:pt x="2240" y="285"/>
                  <a:pt x="2189" y="270"/>
                </a:cubicBezTo>
                <a:cubicBezTo>
                  <a:pt x="2148" y="258"/>
                  <a:pt x="2104" y="247"/>
                  <a:pt x="2062" y="233"/>
                </a:cubicBezTo>
                <a:cubicBezTo>
                  <a:pt x="2034" y="224"/>
                  <a:pt x="2014" y="205"/>
                  <a:pt x="1984" y="196"/>
                </a:cubicBezTo>
                <a:cubicBezTo>
                  <a:pt x="1908" y="137"/>
                  <a:pt x="1794" y="137"/>
                  <a:pt x="1707" y="122"/>
                </a:cubicBezTo>
                <a:cubicBezTo>
                  <a:pt x="1501" y="0"/>
                  <a:pt x="1240" y="7"/>
                  <a:pt x="1022" y="1"/>
                </a:cubicBezTo>
                <a:cubicBezTo>
                  <a:pt x="831" y="6"/>
                  <a:pt x="643" y="8"/>
                  <a:pt x="453" y="28"/>
                </a:cubicBezTo>
                <a:cubicBezTo>
                  <a:pt x="418" y="43"/>
                  <a:pt x="380" y="47"/>
                  <a:pt x="343" y="56"/>
                </a:cubicBezTo>
                <a:cubicBezTo>
                  <a:pt x="323" y="67"/>
                  <a:pt x="299" y="71"/>
                  <a:pt x="280" y="84"/>
                </a:cubicBezTo>
                <a:cubicBezTo>
                  <a:pt x="273" y="88"/>
                  <a:pt x="270" y="97"/>
                  <a:pt x="264" y="103"/>
                </a:cubicBezTo>
                <a:cubicBezTo>
                  <a:pt x="238" y="129"/>
                  <a:pt x="211" y="152"/>
                  <a:pt x="185" y="177"/>
                </a:cubicBezTo>
                <a:cubicBezTo>
                  <a:pt x="162" y="199"/>
                  <a:pt x="150" y="228"/>
                  <a:pt x="129" y="252"/>
                </a:cubicBezTo>
                <a:cubicBezTo>
                  <a:pt x="112" y="314"/>
                  <a:pt x="131" y="255"/>
                  <a:pt x="75" y="354"/>
                </a:cubicBezTo>
                <a:cubicBezTo>
                  <a:pt x="64" y="373"/>
                  <a:pt x="43" y="411"/>
                  <a:pt x="43" y="411"/>
                </a:cubicBezTo>
                <a:cubicBezTo>
                  <a:pt x="35" y="464"/>
                  <a:pt x="25" y="515"/>
                  <a:pt x="19" y="569"/>
                </a:cubicBezTo>
                <a:cubicBezTo>
                  <a:pt x="21" y="619"/>
                  <a:pt x="0" y="860"/>
                  <a:pt x="59" y="942"/>
                </a:cubicBezTo>
                <a:cubicBezTo>
                  <a:pt x="82" y="1027"/>
                  <a:pt x="136" y="1049"/>
                  <a:pt x="155" y="1081"/>
                </a:cubicBezTo>
                <a:cubicBezTo>
                  <a:pt x="174" y="1113"/>
                  <a:pt x="162" y="1117"/>
                  <a:pt x="176" y="1135"/>
                </a:cubicBezTo>
                <a:cubicBezTo>
                  <a:pt x="188" y="1160"/>
                  <a:pt x="233" y="1163"/>
                  <a:pt x="240" y="1188"/>
                </a:cubicBezTo>
                <a:cubicBezTo>
                  <a:pt x="246" y="1207"/>
                  <a:pt x="304" y="1369"/>
                  <a:pt x="304" y="1369"/>
                </a:cubicBezTo>
                <a:cubicBezTo>
                  <a:pt x="367" y="1443"/>
                  <a:pt x="293" y="1777"/>
                  <a:pt x="429" y="1881"/>
                </a:cubicBezTo>
                <a:cubicBezTo>
                  <a:pt x="565" y="1985"/>
                  <a:pt x="985" y="1984"/>
                  <a:pt x="1120" y="1996"/>
                </a:cubicBezTo>
                <a:cubicBezTo>
                  <a:pt x="1151" y="1958"/>
                  <a:pt x="1170" y="1976"/>
                  <a:pt x="1240" y="1956"/>
                </a:cubicBezTo>
                <a:cubicBezTo>
                  <a:pt x="1379" y="1915"/>
                  <a:pt x="1257" y="1866"/>
                  <a:pt x="1464" y="1856"/>
                </a:cubicBezTo>
                <a:cubicBezTo>
                  <a:pt x="1574" y="1859"/>
                  <a:pt x="1684" y="1860"/>
                  <a:pt x="1794" y="1865"/>
                </a:cubicBezTo>
                <a:cubicBezTo>
                  <a:pt x="1876" y="1869"/>
                  <a:pt x="1970" y="1918"/>
                  <a:pt x="2047" y="1949"/>
                </a:cubicBezTo>
                <a:cubicBezTo>
                  <a:pt x="2107" y="1972"/>
                  <a:pt x="2173" y="1955"/>
                  <a:pt x="2236" y="1958"/>
                </a:cubicBezTo>
                <a:cubicBezTo>
                  <a:pt x="2336" y="1969"/>
                  <a:pt x="2437" y="1974"/>
                  <a:pt x="2536" y="1986"/>
                </a:cubicBezTo>
                <a:cubicBezTo>
                  <a:pt x="2653" y="1981"/>
                  <a:pt x="2729" y="2014"/>
                  <a:pt x="2812" y="1949"/>
                </a:cubicBezTo>
                <a:cubicBezTo>
                  <a:pt x="2840" y="1904"/>
                  <a:pt x="2890" y="1831"/>
                  <a:pt x="2931" y="1799"/>
                </a:cubicBezTo>
                <a:cubicBezTo>
                  <a:pt x="2949" y="1758"/>
                  <a:pt x="2964" y="1740"/>
                  <a:pt x="3002" y="1725"/>
                </a:cubicBezTo>
                <a:cubicBezTo>
                  <a:pt x="3036" y="1698"/>
                  <a:pt x="3079" y="1678"/>
                  <a:pt x="3120" y="1669"/>
                </a:cubicBezTo>
                <a:cubicBezTo>
                  <a:pt x="3158" y="1646"/>
                  <a:pt x="3199" y="1639"/>
                  <a:pt x="3239" y="1622"/>
                </a:cubicBezTo>
                <a:cubicBezTo>
                  <a:pt x="3332" y="1631"/>
                  <a:pt x="3425" y="1634"/>
                  <a:pt x="3515" y="1669"/>
                </a:cubicBezTo>
                <a:cubicBezTo>
                  <a:pt x="3543" y="1680"/>
                  <a:pt x="3582" y="1722"/>
                  <a:pt x="3609" y="1744"/>
                </a:cubicBezTo>
                <a:cubicBezTo>
                  <a:pt x="3641" y="1768"/>
                  <a:pt x="3684" y="1785"/>
                  <a:pt x="3720" y="1799"/>
                </a:cubicBezTo>
                <a:cubicBezTo>
                  <a:pt x="3744" y="1827"/>
                  <a:pt x="3774" y="1834"/>
                  <a:pt x="3806" y="1846"/>
                </a:cubicBezTo>
                <a:cubicBezTo>
                  <a:pt x="3875" y="1873"/>
                  <a:pt x="3940" y="1897"/>
                  <a:pt x="4012" y="1911"/>
                </a:cubicBezTo>
                <a:cubicBezTo>
                  <a:pt x="4128" y="1956"/>
                  <a:pt x="4246" y="1965"/>
                  <a:pt x="4367" y="1976"/>
                </a:cubicBezTo>
                <a:cubicBezTo>
                  <a:pt x="4417" y="1987"/>
                  <a:pt x="4466" y="2003"/>
                  <a:pt x="4516" y="2013"/>
                </a:cubicBezTo>
                <a:cubicBezTo>
                  <a:pt x="4615" y="2006"/>
                  <a:pt x="4704" y="1986"/>
                  <a:pt x="4801" y="1967"/>
                </a:cubicBezTo>
                <a:cubicBezTo>
                  <a:pt x="4837" y="1925"/>
                  <a:pt x="4821" y="1952"/>
                  <a:pt x="4840" y="1883"/>
                </a:cubicBezTo>
                <a:cubicBezTo>
                  <a:pt x="4843" y="1874"/>
                  <a:pt x="4848" y="1856"/>
                  <a:pt x="4848" y="1856"/>
                </a:cubicBezTo>
                <a:cubicBezTo>
                  <a:pt x="4844" y="1636"/>
                  <a:pt x="4846" y="1427"/>
                  <a:pt x="4817" y="1212"/>
                </a:cubicBezTo>
                <a:cubicBezTo>
                  <a:pt x="4822" y="1008"/>
                  <a:pt x="4825" y="799"/>
                  <a:pt x="4825" y="596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675000">
            <a:off x="7772400" y="3505320"/>
            <a:ext cx="1066680" cy="1218960"/>
          </a:xfrm>
          <a:prstGeom prst="ellipse">
            <a:avLst/>
          </a:prstGeom>
          <a:solidFill>
            <a:srgbClr val="c2c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89640" y="2971800"/>
            <a:ext cx="0" cy="11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69200" y="2971800"/>
            <a:ext cx="0" cy="11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3079800"/>
            <a:ext cx="431640" cy="272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3800520"/>
            <a:ext cx="431640" cy="272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77320" y="4908600"/>
            <a:ext cx="431640" cy="272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72520" y="36320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55440" y="4757760"/>
            <a:ext cx="2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80560" y="2933640"/>
            <a:ext cx="2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781680" y="3428640"/>
            <a:ext cx="106704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34040" y="396252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411480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3762360"/>
            <a:ext cx="583920" cy="4255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02760" y="3611520"/>
            <a:ext cx="2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3762360"/>
            <a:ext cx="66024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37400" y="3598920"/>
            <a:ext cx="31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59320" y="4917960"/>
            <a:ext cx="584280" cy="4255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50120" y="4748040"/>
            <a:ext cx="2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07040" y="2543040"/>
            <a:ext cx="584280" cy="4255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7840" y="2392200"/>
            <a:ext cx="2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657600" y="2920680"/>
            <a:ext cx="138420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3962520"/>
            <a:ext cx="1562040" cy="11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3962520"/>
            <a:ext cx="170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48520" y="3505320"/>
            <a:ext cx="761760" cy="838080"/>
          </a:xfrm>
          <a:prstGeom prst="irregularSeal2">
            <a:avLst/>
          </a:prstGeom>
          <a:gradFill rotWithShape="0">
            <a:gsLst>
              <a:gs pos="0">
                <a:srgbClr val="ffff00"/>
              </a:gs>
              <a:gs pos="100000">
                <a:srgbClr val="333399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3251160"/>
            <a:ext cx="990720" cy="1371600"/>
          </a:xfrm>
          <a:prstGeom prst="irregularSeal2">
            <a:avLst/>
          </a:prstGeom>
          <a:gradFill rotWithShape="0">
            <a:gsLst>
              <a:gs pos="0">
                <a:srgbClr val="ffff00"/>
              </a:gs>
              <a:gs pos="100000">
                <a:srgbClr val="333399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1520" y="3686040"/>
            <a:ext cx="6606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2960" y="3489480"/>
            <a:ext cx="27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39625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360600">
            <a:off x="2763720" y="2378160"/>
            <a:ext cx="1376640" cy="1155600"/>
          </a:xfrm>
          <a:prstGeom prst="irregularSeal2">
            <a:avLst/>
          </a:prstGeom>
          <a:gradFill rotWithShape="0">
            <a:gsLst>
              <a:gs pos="0">
                <a:srgbClr val="e4df00"/>
              </a:gs>
              <a:gs pos="50000">
                <a:srgbClr val="ffff99"/>
              </a:gs>
              <a:gs pos="100000">
                <a:srgbClr val="e4df00"/>
              </a:gs>
            </a:gsLst>
            <a:lin ang="50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31920" y="3276720"/>
            <a:ext cx="990720" cy="1346040"/>
          </a:xfrm>
          <a:prstGeom prst="irregularSeal2">
            <a:avLst/>
          </a:prstGeom>
          <a:gradFill rotWithShape="0">
            <a:gsLst>
              <a:gs pos="0">
                <a:srgbClr val="ffff03"/>
              </a:gs>
              <a:gs pos="100000">
                <a:srgbClr val="333399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87320" y="3098880"/>
            <a:ext cx="2070360" cy="622080"/>
          </a:xfrm>
          <a:custGeom>
            <a:avLst/>
            <a:gdLst/>
            <a:ahLst/>
            <a:rect l="l" t="t" r="r" b="b"/>
            <a:pathLst>
              <a:path w="1160" h="696">
                <a:moveTo>
                  <a:pt x="0" y="0"/>
                </a:moveTo>
                <a:cubicBezTo>
                  <a:pt x="45" y="140"/>
                  <a:pt x="91" y="280"/>
                  <a:pt x="200" y="384"/>
                </a:cubicBezTo>
                <a:cubicBezTo>
                  <a:pt x="309" y="488"/>
                  <a:pt x="520" y="575"/>
                  <a:pt x="656" y="624"/>
                </a:cubicBezTo>
                <a:cubicBezTo>
                  <a:pt x="792" y="673"/>
                  <a:pt x="932" y="668"/>
                  <a:pt x="1016" y="680"/>
                </a:cubicBezTo>
                <a:cubicBezTo>
                  <a:pt x="1100" y="692"/>
                  <a:pt x="1137" y="693"/>
                  <a:pt x="1160" y="69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733920" y="2557440"/>
            <a:ext cx="685800" cy="428760"/>
            <a:chOff x="3733920" y="2557440"/>
            <a:chExt cx="685800" cy="428760"/>
          </a:xfrm>
        </p:grpSpPr>
        <p:grpSp>
          <p:nvGrpSpPr>
            <p:cNvPr id="284" name=""/>
            <p:cNvGrpSpPr/>
            <p:nvPr/>
          </p:nvGrpSpPr>
          <p:grpSpPr>
            <a:xfrm>
              <a:off x="3733920" y="2557440"/>
              <a:ext cx="685800" cy="428760"/>
              <a:chOff x="3733920" y="2557440"/>
              <a:chExt cx="685800" cy="428760"/>
            </a:xfrm>
          </p:grpSpPr>
          <p:sp>
            <p:nvSpPr>
              <p:cNvPr id="285" name=""/>
              <p:cNvSpPr/>
              <p:nvPr/>
            </p:nvSpPr>
            <p:spPr>
              <a:xfrm>
                <a:off x="3733920" y="2557440"/>
                <a:ext cx="685800" cy="428760"/>
              </a:xfrm>
              <a:prstGeom prst="rect">
                <a:avLst/>
              </a:prstGeom>
              <a:solidFill>
                <a:srgbClr val="d0da8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3848040" y="2637000"/>
                <a:ext cx="444600" cy="27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46600" y="2625840"/>
                <a:ext cx="466560" cy="29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733920" y="2584080"/>
              <a:ext cx="685800" cy="385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938760" y="2343240"/>
            <a:ext cx="27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124760" y="3078000"/>
            <a:ext cx="406440" cy="301680"/>
            <a:chOff x="7124760" y="3078000"/>
            <a:chExt cx="406440" cy="301680"/>
          </a:xfrm>
        </p:grpSpPr>
        <p:grpSp>
          <p:nvGrpSpPr>
            <p:cNvPr id="291" name=""/>
            <p:cNvGrpSpPr/>
            <p:nvPr/>
          </p:nvGrpSpPr>
          <p:grpSpPr>
            <a:xfrm>
              <a:off x="7124760" y="3078000"/>
              <a:ext cx="406440" cy="301680"/>
              <a:chOff x="7124760" y="3078000"/>
              <a:chExt cx="406440" cy="301680"/>
            </a:xfrm>
          </p:grpSpPr>
          <p:sp>
            <p:nvSpPr>
              <p:cNvPr id="292" name=""/>
              <p:cNvSpPr/>
              <p:nvPr/>
            </p:nvSpPr>
            <p:spPr>
              <a:xfrm>
                <a:off x="7124760" y="3078000"/>
                <a:ext cx="406440" cy="301680"/>
              </a:xfrm>
              <a:prstGeom prst="rect">
                <a:avLst/>
              </a:prstGeom>
              <a:solidFill>
                <a:srgbClr val="d0da8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7192080" y="3133440"/>
                <a:ext cx="26352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91360" y="3126240"/>
                <a:ext cx="27648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7124760" y="3096720"/>
              <a:ext cx="406440" cy="27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65680"/>
            <a:ext cx="822960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ediate Replenishme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4582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#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1295280"/>
            <a:ext cx="6933960" cy="3426120"/>
          </a:xfrm>
          <a:custGeom>
            <a:avLst/>
            <a:gdLst/>
            <a:ahLst/>
            <a:rect l="l" t="t" r="r" b="b"/>
            <a:pathLst>
              <a:path w="4848" h="2014">
                <a:moveTo>
                  <a:pt x="4825" y="596"/>
                </a:moveTo>
                <a:cubicBezTo>
                  <a:pt x="4805" y="562"/>
                  <a:pt x="4797" y="524"/>
                  <a:pt x="4785" y="485"/>
                </a:cubicBezTo>
                <a:cubicBezTo>
                  <a:pt x="4772" y="443"/>
                  <a:pt x="4720" y="390"/>
                  <a:pt x="4698" y="364"/>
                </a:cubicBezTo>
                <a:cubicBezTo>
                  <a:pt x="4690" y="354"/>
                  <a:pt x="4685" y="340"/>
                  <a:pt x="4674" y="336"/>
                </a:cubicBezTo>
                <a:cubicBezTo>
                  <a:pt x="4634" y="321"/>
                  <a:pt x="4601" y="292"/>
                  <a:pt x="4564" y="270"/>
                </a:cubicBezTo>
                <a:cubicBezTo>
                  <a:pt x="4502" y="233"/>
                  <a:pt x="4431" y="218"/>
                  <a:pt x="4367" y="186"/>
                </a:cubicBezTo>
                <a:cubicBezTo>
                  <a:pt x="4321" y="164"/>
                  <a:pt x="4279" y="133"/>
                  <a:pt x="4233" y="112"/>
                </a:cubicBezTo>
                <a:cubicBezTo>
                  <a:pt x="4158" y="80"/>
                  <a:pt x="4073" y="66"/>
                  <a:pt x="3996" y="47"/>
                </a:cubicBezTo>
                <a:cubicBezTo>
                  <a:pt x="3906" y="24"/>
                  <a:pt x="3851" y="53"/>
                  <a:pt x="3760" y="36"/>
                </a:cubicBezTo>
                <a:cubicBezTo>
                  <a:pt x="3702" y="44"/>
                  <a:pt x="3634" y="34"/>
                  <a:pt x="3576" y="44"/>
                </a:cubicBezTo>
                <a:cubicBezTo>
                  <a:pt x="3535" y="67"/>
                  <a:pt x="3481" y="39"/>
                  <a:pt x="3436" y="47"/>
                </a:cubicBezTo>
                <a:cubicBezTo>
                  <a:pt x="3400" y="64"/>
                  <a:pt x="3370" y="71"/>
                  <a:pt x="3333" y="84"/>
                </a:cubicBezTo>
                <a:cubicBezTo>
                  <a:pt x="3317" y="89"/>
                  <a:pt x="3286" y="103"/>
                  <a:pt x="3286" y="103"/>
                </a:cubicBezTo>
                <a:cubicBezTo>
                  <a:pt x="3196" y="182"/>
                  <a:pt x="3079" y="257"/>
                  <a:pt x="2970" y="289"/>
                </a:cubicBezTo>
                <a:cubicBezTo>
                  <a:pt x="2881" y="343"/>
                  <a:pt x="2812" y="331"/>
                  <a:pt x="2702" y="336"/>
                </a:cubicBezTo>
                <a:cubicBezTo>
                  <a:pt x="2529" y="362"/>
                  <a:pt x="2618" y="358"/>
                  <a:pt x="2434" y="345"/>
                </a:cubicBezTo>
                <a:cubicBezTo>
                  <a:pt x="2426" y="343"/>
                  <a:pt x="2373" y="332"/>
                  <a:pt x="2363" y="327"/>
                </a:cubicBezTo>
                <a:cubicBezTo>
                  <a:pt x="2354" y="323"/>
                  <a:pt x="2348" y="312"/>
                  <a:pt x="2339" y="308"/>
                </a:cubicBezTo>
                <a:cubicBezTo>
                  <a:pt x="2291" y="287"/>
                  <a:pt x="2240" y="285"/>
                  <a:pt x="2189" y="270"/>
                </a:cubicBezTo>
                <a:cubicBezTo>
                  <a:pt x="2148" y="258"/>
                  <a:pt x="2104" y="247"/>
                  <a:pt x="2062" y="233"/>
                </a:cubicBezTo>
                <a:cubicBezTo>
                  <a:pt x="2034" y="224"/>
                  <a:pt x="2014" y="205"/>
                  <a:pt x="1984" y="196"/>
                </a:cubicBezTo>
                <a:cubicBezTo>
                  <a:pt x="1908" y="137"/>
                  <a:pt x="1794" y="137"/>
                  <a:pt x="1707" y="122"/>
                </a:cubicBezTo>
                <a:cubicBezTo>
                  <a:pt x="1501" y="0"/>
                  <a:pt x="1240" y="7"/>
                  <a:pt x="1022" y="1"/>
                </a:cubicBezTo>
                <a:cubicBezTo>
                  <a:pt x="831" y="6"/>
                  <a:pt x="643" y="8"/>
                  <a:pt x="453" y="28"/>
                </a:cubicBezTo>
                <a:cubicBezTo>
                  <a:pt x="418" y="43"/>
                  <a:pt x="380" y="47"/>
                  <a:pt x="343" y="56"/>
                </a:cubicBezTo>
                <a:cubicBezTo>
                  <a:pt x="323" y="67"/>
                  <a:pt x="299" y="71"/>
                  <a:pt x="280" y="84"/>
                </a:cubicBezTo>
                <a:cubicBezTo>
                  <a:pt x="273" y="88"/>
                  <a:pt x="270" y="97"/>
                  <a:pt x="264" y="103"/>
                </a:cubicBezTo>
                <a:cubicBezTo>
                  <a:pt x="238" y="129"/>
                  <a:pt x="211" y="152"/>
                  <a:pt x="185" y="177"/>
                </a:cubicBezTo>
                <a:cubicBezTo>
                  <a:pt x="162" y="199"/>
                  <a:pt x="150" y="228"/>
                  <a:pt x="129" y="252"/>
                </a:cubicBezTo>
                <a:cubicBezTo>
                  <a:pt x="112" y="314"/>
                  <a:pt x="131" y="255"/>
                  <a:pt x="75" y="354"/>
                </a:cubicBezTo>
                <a:cubicBezTo>
                  <a:pt x="64" y="373"/>
                  <a:pt x="43" y="411"/>
                  <a:pt x="43" y="411"/>
                </a:cubicBezTo>
                <a:cubicBezTo>
                  <a:pt x="35" y="464"/>
                  <a:pt x="25" y="515"/>
                  <a:pt x="19" y="569"/>
                </a:cubicBezTo>
                <a:cubicBezTo>
                  <a:pt x="21" y="619"/>
                  <a:pt x="0" y="860"/>
                  <a:pt x="59" y="942"/>
                </a:cubicBezTo>
                <a:cubicBezTo>
                  <a:pt x="82" y="1027"/>
                  <a:pt x="136" y="1049"/>
                  <a:pt x="155" y="1081"/>
                </a:cubicBezTo>
                <a:cubicBezTo>
                  <a:pt x="174" y="1113"/>
                  <a:pt x="162" y="1117"/>
                  <a:pt x="176" y="1135"/>
                </a:cubicBezTo>
                <a:cubicBezTo>
                  <a:pt x="188" y="1160"/>
                  <a:pt x="233" y="1163"/>
                  <a:pt x="240" y="1188"/>
                </a:cubicBezTo>
                <a:cubicBezTo>
                  <a:pt x="246" y="1207"/>
                  <a:pt x="304" y="1369"/>
                  <a:pt x="304" y="1369"/>
                </a:cubicBezTo>
                <a:cubicBezTo>
                  <a:pt x="367" y="1443"/>
                  <a:pt x="293" y="1777"/>
                  <a:pt x="429" y="1881"/>
                </a:cubicBezTo>
                <a:cubicBezTo>
                  <a:pt x="565" y="1985"/>
                  <a:pt x="985" y="1984"/>
                  <a:pt x="1120" y="1996"/>
                </a:cubicBezTo>
                <a:cubicBezTo>
                  <a:pt x="1151" y="1958"/>
                  <a:pt x="1170" y="1976"/>
                  <a:pt x="1240" y="1956"/>
                </a:cubicBezTo>
                <a:cubicBezTo>
                  <a:pt x="1379" y="1915"/>
                  <a:pt x="1257" y="1866"/>
                  <a:pt x="1464" y="1856"/>
                </a:cubicBezTo>
                <a:cubicBezTo>
                  <a:pt x="1574" y="1859"/>
                  <a:pt x="1684" y="1860"/>
                  <a:pt x="1794" y="1865"/>
                </a:cubicBezTo>
                <a:cubicBezTo>
                  <a:pt x="1876" y="1869"/>
                  <a:pt x="1970" y="1918"/>
                  <a:pt x="2047" y="1949"/>
                </a:cubicBezTo>
                <a:cubicBezTo>
                  <a:pt x="2107" y="1972"/>
                  <a:pt x="2173" y="1955"/>
                  <a:pt x="2236" y="1958"/>
                </a:cubicBezTo>
                <a:cubicBezTo>
                  <a:pt x="2336" y="1969"/>
                  <a:pt x="2437" y="1974"/>
                  <a:pt x="2536" y="1986"/>
                </a:cubicBezTo>
                <a:cubicBezTo>
                  <a:pt x="2653" y="1981"/>
                  <a:pt x="2729" y="2014"/>
                  <a:pt x="2812" y="1949"/>
                </a:cubicBezTo>
                <a:cubicBezTo>
                  <a:pt x="2840" y="1904"/>
                  <a:pt x="2890" y="1831"/>
                  <a:pt x="2931" y="1799"/>
                </a:cubicBezTo>
                <a:cubicBezTo>
                  <a:pt x="2949" y="1758"/>
                  <a:pt x="2964" y="1740"/>
                  <a:pt x="3002" y="1725"/>
                </a:cubicBezTo>
                <a:cubicBezTo>
                  <a:pt x="3036" y="1698"/>
                  <a:pt x="3079" y="1678"/>
                  <a:pt x="3120" y="1669"/>
                </a:cubicBezTo>
                <a:cubicBezTo>
                  <a:pt x="3158" y="1646"/>
                  <a:pt x="3199" y="1639"/>
                  <a:pt x="3239" y="1622"/>
                </a:cubicBezTo>
                <a:cubicBezTo>
                  <a:pt x="3332" y="1631"/>
                  <a:pt x="3425" y="1634"/>
                  <a:pt x="3515" y="1669"/>
                </a:cubicBezTo>
                <a:cubicBezTo>
                  <a:pt x="3543" y="1680"/>
                  <a:pt x="3582" y="1722"/>
                  <a:pt x="3609" y="1744"/>
                </a:cubicBezTo>
                <a:cubicBezTo>
                  <a:pt x="3641" y="1768"/>
                  <a:pt x="3684" y="1785"/>
                  <a:pt x="3720" y="1799"/>
                </a:cubicBezTo>
                <a:cubicBezTo>
                  <a:pt x="3744" y="1827"/>
                  <a:pt x="3774" y="1834"/>
                  <a:pt x="3806" y="1846"/>
                </a:cubicBezTo>
                <a:cubicBezTo>
                  <a:pt x="3875" y="1873"/>
                  <a:pt x="3940" y="1897"/>
                  <a:pt x="4012" y="1911"/>
                </a:cubicBezTo>
                <a:cubicBezTo>
                  <a:pt x="4128" y="1956"/>
                  <a:pt x="4246" y="1965"/>
                  <a:pt x="4367" y="1976"/>
                </a:cubicBezTo>
                <a:cubicBezTo>
                  <a:pt x="4417" y="1987"/>
                  <a:pt x="4466" y="2003"/>
                  <a:pt x="4516" y="2013"/>
                </a:cubicBezTo>
                <a:cubicBezTo>
                  <a:pt x="4615" y="2006"/>
                  <a:pt x="4704" y="1986"/>
                  <a:pt x="4801" y="1967"/>
                </a:cubicBezTo>
                <a:cubicBezTo>
                  <a:pt x="4837" y="1925"/>
                  <a:pt x="4821" y="1952"/>
                  <a:pt x="4840" y="1883"/>
                </a:cubicBezTo>
                <a:cubicBezTo>
                  <a:pt x="4843" y="1874"/>
                  <a:pt x="4848" y="1856"/>
                  <a:pt x="4848" y="1856"/>
                </a:cubicBezTo>
                <a:cubicBezTo>
                  <a:pt x="4844" y="1636"/>
                  <a:pt x="4846" y="1427"/>
                  <a:pt x="4817" y="1212"/>
                </a:cubicBezTo>
                <a:cubicBezTo>
                  <a:pt x="4822" y="1008"/>
                  <a:pt x="4825" y="799"/>
                  <a:pt x="4825" y="596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675000">
            <a:off x="7772400" y="3048120"/>
            <a:ext cx="1066680" cy="1218960"/>
          </a:xfrm>
          <a:prstGeom prst="ellipse">
            <a:avLst/>
          </a:prstGeom>
          <a:solidFill>
            <a:srgbClr val="c2c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9640" y="2514600"/>
            <a:ext cx="0" cy="11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69200" y="2514600"/>
            <a:ext cx="0" cy="11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001000" y="2622600"/>
            <a:ext cx="431640" cy="272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3343320"/>
            <a:ext cx="431640" cy="272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077320" y="4451400"/>
            <a:ext cx="431640" cy="2728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72520" y="31748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155440" y="4300560"/>
            <a:ext cx="2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080560" y="2476440"/>
            <a:ext cx="2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781680" y="2971440"/>
            <a:ext cx="106704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34040" y="350532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81680" y="365760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3305160"/>
            <a:ext cx="583920" cy="4255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02760" y="3154320"/>
            <a:ext cx="2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3305160"/>
            <a:ext cx="66024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37400" y="3141720"/>
            <a:ext cx="31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59320" y="4460760"/>
            <a:ext cx="584280" cy="4255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50120" y="4290840"/>
            <a:ext cx="2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07040" y="2085840"/>
            <a:ext cx="584280" cy="4255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97840" y="1935000"/>
            <a:ext cx="2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657600" y="2463480"/>
            <a:ext cx="138420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57600" y="3505320"/>
            <a:ext cx="1562040" cy="11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3505320"/>
            <a:ext cx="170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48520" y="3048120"/>
            <a:ext cx="761760" cy="838080"/>
          </a:xfrm>
          <a:prstGeom prst="irregularSeal2">
            <a:avLst/>
          </a:prstGeom>
          <a:gradFill rotWithShape="0">
            <a:gsLst>
              <a:gs pos="0">
                <a:srgbClr val="ffff00"/>
              </a:gs>
              <a:gs pos="100000">
                <a:srgbClr val="333399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43400" y="2793960"/>
            <a:ext cx="990720" cy="1371600"/>
          </a:xfrm>
          <a:prstGeom prst="irregularSeal2">
            <a:avLst/>
          </a:prstGeom>
          <a:gradFill rotWithShape="0">
            <a:gsLst>
              <a:gs pos="0">
                <a:srgbClr val="ffff00"/>
              </a:gs>
              <a:gs pos="100000">
                <a:srgbClr val="333399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1520" y="3228840"/>
            <a:ext cx="6606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2960" y="3032280"/>
            <a:ext cx="27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5053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360600">
            <a:off x="2763720" y="1920960"/>
            <a:ext cx="1376640" cy="1155600"/>
          </a:xfrm>
          <a:prstGeom prst="irregularSeal2">
            <a:avLst/>
          </a:prstGeom>
          <a:gradFill rotWithShape="0">
            <a:gsLst>
              <a:gs pos="0">
                <a:srgbClr val="e4df00"/>
              </a:gs>
              <a:gs pos="50000">
                <a:srgbClr val="ffff99"/>
              </a:gs>
              <a:gs pos="100000">
                <a:srgbClr val="e4df00"/>
              </a:gs>
            </a:gsLst>
            <a:lin ang="50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31920" y="2819520"/>
            <a:ext cx="990720" cy="1346040"/>
          </a:xfrm>
          <a:prstGeom prst="irregularSeal2">
            <a:avLst/>
          </a:prstGeom>
          <a:gradFill rotWithShape="0">
            <a:gsLst>
              <a:gs pos="0">
                <a:srgbClr val="ffff03"/>
              </a:gs>
              <a:gs pos="100000">
                <a:srgbClr val="333399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87320" y="2641680"/>
            <a:ext cx="2070360" cy="622080"/>
          </a:xfrm>
          <a:custGeom>
            <a:avLst/>
            <a:gdLst/>
            <a:ahLst/>
            <a:rect l="l" t="t" r="r" b="b"/>
            <a:pathLst>
              <a:path w="1160" h="696">
                <a:moveTo>
                  <a:pt x="0" y="0"/>
                </a:moveTo>
                <a:cubicBezTo>
                  <a:pt x="45" y="140"/>
                  <a:pt x="91" y="280"/>
                  <a:pt x="200" y="384"/>
                </a:cubicBezTo>
                <a:cubicBezTo>
                  <a:pt x="309" y="488"/>
                  <a:pt x="520" y="575"/>
                  <a:pt x="656" y="624"/>
                </a:cubicBezTo>
                <a:cubicBezTo>
                  <a:pt x="792" y="673"/>
                  <a:pt x="932" y="668"/>
                  <a:pt x="1016" y="680"/>
                </a:cubicBezTo>
                <a:cubicBezTo>
                  <a:pt x="1100" y="692"/>
                  <a:pt x="1137" y="693"/>
                  <a:pt x="1160" y="69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733920" y="2100240"/>
            <a:ext cx="685800" cy="428760"/>
            <a:chOff x="3733920" y="2100240"/>
            <a:chExt cx="685800" cy="428760"/>
          </a:xfrm>
        </p:grpSpPr>
        <p:grpSp>
          <p:nvGrpSpPr>
            <p:cNvPr id="333" name=""/>
            <p:cNvGrpSpPr/>
            <p:nvPr/>
          </p:nvGrpSpPr>
          <p:grpSpPr>
            <a:xfrm>
              <a:off x="3733920" y="2100240"/>
              <a:ext cx="685800" cy="428760"/>
              <a:chOff x="3733920" y="2100240"/>
              <a:chExt cx="685800" cy="428760"/>
            </a:xfrm>
          </p:grpSpPr>
          <p:sp>
            <p:nvSpPr>
              <p:cNvPr id="334" name=""/>
              <p:cNvSpPr/>
              <p:nvPr/>
            </p:nvSpPr>
            <p:spPr>
              <a:xfrm>
                <a:off x="3733920" y="2100240"/>
                <a:ext cx="685800" cy="428760"/>
              </a:xfrm>
              <a:prstGeom prst="rect">
                <a:avLst/>
              </a:prstGeom>
              <a:solidFill>
                <a:srgbClr val="d0da8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3848040" y="2179800"/>
                <a:ext cx="444600" cy="27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46600" y="2168640"/>
                <a:ext cx="466560" cy="29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3733920" y="2126880"/>
              <a:ext cx="685800" cy="385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938760" y="1886040"/>
            <a:ext cx="27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124760" y="2620800"/>
            <a:ext cx="406440" cy="301680"/>
            <a:chOff x="7124760" y="2620800"/>
            <a:chExt cx="406440" cy="301680"/>
          </a:xfrm>
        </p:grpSpPr>
        <p:grpSp>
          <p:nvGrpSpPr>
            <p:cNvPr id="340" name=""/>
            <p:cNvGrpSpPr/>
            <p:nvPr/>
          </p:nvGrpSpPr>
          <p:grpSpPr>
            <a:xfrm>
              <a:off x="7124760" y="2620800"/>
              <a:ext cx="406440" cy="301680"/>
              <a:chOff x="7124760" y="2620800"/>
              <a:chExt cx="406440" cy="301680"/>
            </a:xfrm>
          </p:grpSpPr>
          <p:sp>
            <p:nvSpPr>
              <p:cNvPr id="341" name=""/>
              <p:cNvSpPr/>
              <p:nvPr/>
            </p:nvSpPr>
            <p:spPr>
              <a:xfrm>
                <a:off x="7124760" y="2620800"/>
                <a:ext cx="406440" cy="301680"/>
              </a:xfrm>
              <a:prstGeom prst="rect">
                <a:avLst/>
              </a:prstGeom>
              <a:solidFill>
                <a:srgbClr val="d0da8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7192080" y="2676240"/>
                <a:ext cx="26352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191360" y="2669040"/>
                <a:ext cx="27648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7124760" y="2639520"/>
              <a:ext cx="406440" cy="27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04920" y="4994280"/>
            <a:ext cx="3962160" cy="1311480"/>
          </a:xfrm>
          <a:prstGeom prst="rect">
            <a:avLst/>
          </a:prstGeom>
          <a:solidFill>
            <a:srgbClr val="d3ebed">
              <a:alpha val="54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rm, refuel, cross-level supplies and on-board s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VIII re-supply, transfer/evacuate casua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42120" y="58672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ANY SLIDES TO ENSURE THAT YOU UNDERSTAND THE BASIC LOGISTICS SUPPOR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ON TO THE NEXT LESSON OF YOUR SUPPORT OPERTIONS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rcRect l="0" t="328" r="7546" b="19936"/>
          <a:stretch/>
        </p:blipFill>
        <p:spPr>
          <a:xfrm>
            <a:off x="4495680" y="1600200"/>
            <a:ext cx="4038840" cy="4081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457200" y="380880"/>
            <a:ext cx="8077320" cy="7855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SUCCESSFULLY COMPL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CHECKS ON LEARNING FOR THE CSS OVERVIEW LESS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6172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endshow"/>
          </p:cNvPr>
          <p:cNvSpPr/>
          <p:nvPr/>
        </p:nvSpPr>
        <p:spPr>
          <a:xfrm>
            <a:off x="8001000" y="60958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10991" y="17806"/>
                </a:lnTo>
                <a:lnTo>
                  <a:pt x="10991" y="3794"/>
                </a:lnTo>
                <a:close/>
              </a:path>
              <a:path fill="darken" w="35994" h="21600">
                <a:moveTo>
                  <a:pt x="23341" y="3794"/>
                </a:moveTo>
                <a:lnTo>
                  <a:pt x="23341" y="17806"/>
                </a:lnTo>
                <a:lnTo>
                  <a:pt x="25004" y="17806"/>
                </a:lnTo>
                <a:lnTo>
                  <a:pt x="2500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three levels of combat service support (CS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209680"/>
            <a:ext cx="807696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ich of the following describe a brigade combat team (BCT) logistics principle?  Select more than one from the list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logistics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velocity with reduced order-to-receip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l demands on hand when the requirements are exp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 An agile logistic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7724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6216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eck your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01000" cy="238644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three levels of combat service support (C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cal 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 4-0, Chapter 4                     Slide # 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09880"/>
            <a:ext cx="7924680" cy="256284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f the following describe a  brigade combat team (BCT) logistics principl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Dedicated logistics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Increased velocity with reduced order-to-receip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An agile logistic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4.90.1, Page 1-6 through 1-7        Slide #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6324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9144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low time for the answers to app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46000" y="3494160"/>
            <a:ext cx="1089000" cy="474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93680" y="3259080"/>
            <a:ext cx="1121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23840" y="2241720"/>
            <a:ext cx="73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49320" y="5551560"/>
            <a:ext cx="73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30400" y="6000840"/>
            <a:ext cx="987480" cy="476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0" tIns="27432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46000" y="5762520"/>
            <a:ext cx="982800" cy="474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11400" y="5699160"/>
            <a:ext cx="73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6000" y="2517840"/>
            <a:ext cx="1106640" cy="474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6000" y="4446720"/>
            <a:ext cx="13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IS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1240" y="4091040"/>
            <a:ext cx="73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60520" y="4749840"/>
            <a:ext cx="987480" cy="474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0" tIns="27432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1440" y="4525920"/>
            <a:ext cx="987480" cy="474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0" tIns="27432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7400" y="4289400"/>
            <a:ext cx="982800" cy="474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7280" y="5904000"/>
            <a:ext cx="987480" cy="47448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7280" y="3875040"/>
            <a:ext cx="1117440" cy="4748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400" y="1828800"/>
            <a:ext cx="165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7280" y="2943360"/>
            <a:ext cx="987480" cy="4744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752480"/>
            <a:ext cx="19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a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90960" y="3641760"/>
            <a:ext cx="738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87720" y="26226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990720"/>
            <a:ext cx="761976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What modular force organization replaced each of the Army of Excellence (AOE) organizations shown on the left in bl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2004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1148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486400"/>
            <a:ext cx="52578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1148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32004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6248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eck your ans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6000" y="3494160"/>
            <a:ext cx="1089000" cy="474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93680" y="3259080"/>
            <a:ext cx="1121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23840" y="2241720"/>
            <a:ext cx="73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49320" y="5551560"/>
            <a:ext cx="73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30400" y="6000840"/>
            <a:ext cx="987480" cy="476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0" tIns="27432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46000" y="5762520"/>
            <a:ext cx="982800" cy="474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11400" y="5699160"/>
            <a:ext cx="73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46000" y="2517840"/>
            <a:ext cx="1106640" cy="474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6000" y="4446720"/>
            <a:ext cx="13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IS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11240" y="4091040"/>
            <a:ext cx="73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60520" y="4749840"/>
            <a:ext cx="987480" cy="474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0" tIns="27432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1440" y="4525920"/>
            <a:ext cx="987480" cy="474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0" tIns="27432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7400" y="4289400"/>
            <a:ext cx="982800" cy="474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7280" y="5904000"/>
            <a:ext cx="987480" cy="47448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7280" y="3875040"/>
            <a:ext cx="1117440" cy="4748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400" y="1828800"/>
            <a:ext cx="165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7280" y="2943360"/>
            <a:ext cx="987480" cy="4744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1752480"/>
            <a:ext cx="19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a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0960" y="3641760"/>
            <a:ext cx="738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87720" y="26226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03800" y="3733920"/>
            <a:ext cx="4611600" cy="1435680"/>
          </a:xfrm>
          <a:prstGeom prst="rect">
            <a:avLst/>
          </a:prstGeom>
          <a:solidFill>
            <a:srgbClr val="d3ebed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stainment capabilities habitually associated with division integrated into SUST B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OM and CSG capabilities integrated into Sustainment Briga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334120"/>
            <a:ext cx="4778280" cy="91476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ainment capabilities for independent BCT operations integrated into Brigade Support Bn (BS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24320" y="2627280"/>
            <a:ext cx="4667400" cy="821880"/>
          </a:xfrm>
          <a:prstGeom prst="rect">
            <a:avLst/>
          </a:prstGeom>
          <a:solidFill>
            <a:srgbClr val="d3eb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stainment capabilities of previous Theater Support Command &amp; COSCOM integrated into Theater Sustainment Command (TSC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1148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4864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200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114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486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6415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s # 14&amp;15, 19&amp;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066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ow time for the answers to app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1879560"/>
            <a:ext cx="6057720" cy="1170000"/>
            <a:chOff x="762120" y="1879560"/>
            <a:chExt cx="6057720" cy="1170000"/>
          </a:xfrm>
        </p:grpSpPr>
        <p:cxnSp>
          <p:nvCxnSpPr>
            <p:cNvPr id="130" name="_s10256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218920" y="1650240"/>
              <a:ext cx="229320" cy="1600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0255"/>
            <p:cNvCxnSpPr>
              <a:stCxn id="134" idx="0"/>
              <a:endCxn id="132" idx="2"/>
            </p:cNvCxnSpPr>
            <p:nvPr/>
          </p:nvCxnSpPr>
          <p:spPr>
            <a:xfrm flipV="1">
              <a:off x="4533480" y="2336040"/>
              <a:ext cx="252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254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3619080" y="1650240"/>
              <a:ext cx="229320" cy="1600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0250"/>
            <p:cNvSpPr/>
            <p:nvPr/>
          </p:nvSpPr>
          <p:spPr>
            <a:xfrm>
              <a:off x="3848040" y="187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251"/>
            <p:cNvSpPr/>
            <p:nvPr/>
          </p:nvSpPr>
          <p:spPr>
            <a:xfrm>
              <a:off x="2247840" y="256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52"/>
            <p:cNvSpPr/>
            <p:nvPr/>
          </p:nvSpPr>
          <p:spPr>
            <a:xfrm>
              <a:off x="3848040" y="256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53"/>
            <p:cNvSpPr/>
            <p:nvPr/>
          </p:nvSpPr>
          <p:spPr>
            <a:xfrm>
              <a:off x="5448240" y="256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2"/>
            <p:cNvSpPr/>
            <p:nvPr/>
          </p:nvSpPr>
          <p:spPr>
            <a:xfrm>
              <a:off x="762120" y="259092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294920" y="2438280"/>
              <a:ext cx="1600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90720" y="2681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H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914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What companies are assigned to a modular Brigade Support Battalion, HB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352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your answers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295280" y="2438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6415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649116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6324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#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06400" y="3809880"/>
            <a:ext cx="7391520" cy="1882800"/>
            <a:chOff x="806400" y="3809880"/>
            <a:chExt cx="7391520" cy="1882800"/>
          </a:xfrm>
        </p:grpSpPr>
        <p:sp>
          <p:nvSpPr>
            <p:cNvPr id="147" name=""/>
            <p:cNvSpPr/>
            <p:nvPr/>
          </p:nvSpPr>
          <p:spPr>
            <a:xfrm>
              <a:off x="806400" y="3809880"/>
              <a:ext cx="7391520" cy="188280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2880" y="39610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" name=""/>
            <p:cNvGraphicFramePr/>
            <p:nvPr/>
          </p:nvGraphicFramePr>
          <p:xfrm>
            <a:off x="1143000" y="4098600"/>
            <a:ext cx="6781680" cy="11469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4098600"/>
                      <a:ext cx="6781680" cy="114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2165400" y="5065920"/>
              <a:ext cx="172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eld Mainte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05720" y="5145480"/>
              <a:ext cx="118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59280" y="4734000"/>
              <a:ext cx="685800" cy="3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40520" y="473400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59280" y="4893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11920" y="481356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92800" y="481356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82600" y="5131800"/>
              <a:ext cx="99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62520" y="4190400"/>
              <a:ext cx="1066680" cy="22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2520" y="4190400"/>
              <a:ext cx="11430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4420080"/>
              <a:ext cx="1447920" cy="18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9920" y="446616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467480" y="4466160"/>
              <a:ext cx="0" cy="137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828440" y="2621160"/>
            <a:ext cx="5714640" cy="3184200"/>
            <a:chOff x="1828440" y="2621160"/>
            <a:chExt cx="5714640" cy="3184200"/>
          </a:xfrm>
        </p:grpSpPr>
        <p:cxnSp>
          <p:nvCxnSpPr>
            <p:cNvPr id="167" name="_s11295"/>
            <p:cNvCxnSpPr>
              <a:stCxn id="168" idx="1"/>
              <a:endCxn id="169" idx="2"/>
            </p:cNvCxnSpPr>
            <p:nvPr/>
          </p:nvCxnSpPr>
          <p:spPr>
            <a:xfrm rot="10800000">
              <a:off x="5942520" y="3371040"/>
              <a:ext cx="228960" cy="220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11293"/>
            <p:cNvCxnSpPr>
              <a:stCxn id="171" idx="1"/>
              <a:endCxn id="169" idx="2"/>
            </p:cNvCxnSpPr>
            <p:nvPr/>
          </p:nvCxnSpPr>
          <p:spPr>
            <a:xfrm rot="10800000">
              <a:off x="5942520" y="3371040"/>
              <a:ext cx="228960" cy="159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1291"/>
            <p:cNvCxnSpPr>
              <a:stCxn id="173" idx="1"/>
              <a:endCxn id="169" idx="2"/>
            </p:cNvCxnSpPr>
            <p:nvPr/>
          </p:nvCxnSpPr>
          <p:spPr>
            <a:xfrm rot="10800000">
              <a:off x="5942520" y="3371040"/>
              <a:ext cx="228960" cy="98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1289"/>
            <p:cNvCxnSpPr>
              <a:stCxn id="175" idx="1"/>
              <a:endCxn id="169" idx="2"/>
            </p:cNvCxnSpPr>
            <p:nvPr/>
          </p:nvCxnSpPr>
          <p:spPr>
            <a:xfrm rot="10800000">
              <a:off x="5942520" y="3371040"/>
              <a:ext cx="228960" cy="38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1287"/>
            <p:cNvCxnSpPr>
              <a:stCxn id="177" idx="1"/>
              <a:endCxn id="178" idx="2"/>
            </p:cNvCxnSpPr>
            <p:nvPr/>
          </p:nvCxnSpPr>
          <p:spPr>
            <a:xfrm rot="10800000">
              <a:off x="4113720" y="3371040"/>
              <a:ext cx="228960" cy="220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1285"/>
            <p:cNvCxnSpPr>
              <a:stCxn id="180" idx="1"/>
              <a:endCxn id="178" idx="2"/>
            </p:cNvCxnSpPr>
            <p:nvPr/>
          </p:nvCxnSpPr>
          <p:spPr>
            <a:xfrm rot="10800000">
              <a:off x="4113720" y="3371040"/>
              <a:ext cx="228960" cy="159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1283"/>
            <p:cNvCxnSpPr>
              <a:stCxn id="182" idx="1"/>
              <a:endCxn id="178" idx="2"/>
            </p:cNvCxnSpPr>
            <p:nvPr/>
          </p:nvCxnSpPr>
          <p:spPr>
            <a:xfrm rot="10800000">
              <a:off x="4113720" y="3371040"/>
              <a:ext cx="228960" cy="98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11281"/>
            <p:cNvCxnSpPr>
              <a:stCxn id="184" idx="1"/>
              <a:endCxn id="178" idx="2"/>
            </p:cNvCxnSpPr>
            <p:nvPr/>
          </p:nvCxnSpPr>
          <p:spPr>
            <a:xfrm rot="10800000">
              <a:off x="4113720" y="3371040"/>
              <a:ext cx="228960" cy="38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11279"/>
            <p:cNvCxnSpPr>
              <a:stCxn id="186" idx="0"/>
              <a:endCxn id="187" idx="2"/>
            </p:cNvCxnSpPr>
            <p:nvPr/>
          </p:nvCxnSpPr>
          <p:spPr>
            <a:xfrm flipV="1">
              <a:off x="2514240" y="3371400"/>
              <a:ext cx="2160" cy="14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11276"/>
            <p:cNvCxnSpPr>
              <a:stCxn id="169" idx="0"/>
              <a:endCxn id="189" idx="2"/>
            </p:cNvCxnSpPr>
            <p:nvPr/>
          </p:nvCxnSpPr>
          <p:spPr>
            <a:xfrm flipV="1" rot="16200000">
              <a:off x="5238360" y="2367720"/>
              <a:ext cx="151560" cy="1257120"/>
            </a:xfrm>
            <a:prstGeom prst="bentConnector3">
              <a:avLst>
                <a:gd name="adj1" fmla="val 495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11275"/>
            <p:cNvCxnSpPr>
              <a:stCxn id="178" idx="0"/>
              <a:endCxn id="189" idx="2"/>
            </p:cNvCxnSpPr>
            <p:nvPr/>
          </p:nvCxnSpPr>
          <p:spPr>
            <a:xfrm flipH="1" flipV="1" rot="5400000">
              <a:off x="4324320" y="2710440"/>
              <a:ext cx="151560" cy="572040"/>
            </a:xfrm>
            <a:prstGeom prst="bentConnector3">
              <a:avLst>
                <a:gd name="adj1" fmla="val 495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1274"/>
            <p:cNvCxnSpPr>
              <a:stCxn id="187" idx="0"/>
              <a:endCxn id="189" idx="2"/>
            </p:cNvCxnSpPr>
            <p:nvPr/>
          </p:nvCxnSpPr>
          <p:spPr>
            <a:xfrm flipH="1" flipV="1" rot="5400000">
              <a:off x="3524400" y="1910520"/>
              <a:ext cx="151560" cy="2171880"/>
            </a:xfrm>
            <a:prstGeom prst="bentConnector3">
              <a:avLst>
                <a:gd name="adj1" fmla="val 495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9" name="_s11270"/>
            <p:cNvSpPr/>
            <p:nvPr/>
          </p:nvSpPr>
          <p:spPr>
            <a:xfrm>
              <a:off x="4000320" y="2621160"/>
              <a:ext cx="1371240" cy="30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1271"/>
            <p:cNvSpPr/>
            <p:nvPr/>
          </p:nvSpPr>
          <p:spPr>
            <a:xfrm>
              <a:off x="1828440" y="3071880"/>
              <a:ext cx="1371240" cy="299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Q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1272"/>
            <p:cNvSpPr/>
            <p:nvPr/>
          </p:nvSpPr>
          <p:spPr>
            <a:xfrm>
              <a:off x="3428640" y="3071880"/>
              <a:ext cx="1371240" cy="299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1273"/>
            <p:cNvSpPr/>
            <p:nvPr/>
          </p:nvSpPr>
          <p:spPr>
            <a:xfrm>
              <a:off x="5257440" y="3071880"/>
              <a:ext cx="1371240" cy="299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1278"/>
            <p:cNvSpPr/>
            <p:nvPr/>
          </p:nvSpPr>
          <p:spPr>
            <a:xfrm>
              <a:off x="1828440" y="3521880"/>
              <a:ext cx="1371240" cy="457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1280"/>
            <p:cNvSpPr/>
            <p:nvPr/>
          </p:nvSpPr>
          <p:spPr>
            <a:xfrm>
              <a:off x="4343040" y="3521880"/>
              <a:ext cx="1371240" cy="457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T H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1282"/>
            <p:cNvSpPr/>
            <p:nvPr/>
          </p:nvSpPr>
          <p:spPr>
            <a:xfrm>
              <a:off x="4343040" y="4130640"/>
              <a:ext cx="1371240" cy="457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1284"/>
            <p:cNvSpPr/>
            <p:nvPr/>
          </p:nvSpPr>
          <p:spPr>
            <a:xfrm>
              <a:off x="4343040" y="4738680"/>
              <a:ext cx="1371240" cy="457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 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1286"/>
            <p:cNvSpPr/>
            <p:nvPr/>
          </p:nvSpPr>
          <p:spPr>
            <a:xfrm>
              <a:off x="4343040" y="5347440"/>
              <a:ext cx="1371240" cy="457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1288"/>
            <p:cNvSpPr/>
            <p:nvPr/>
          </p:nvSpPr>
          <p:spPr>
            <a:xfrm>
              <a:off x="6171840" y="3521880"/>
              <a:ext cx="1371240" cy="457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T HQ 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1290"/>
            <p:cNvSpPr/>
            <p:nvPr/>
          </p:nvSpPr>
          <p:spPr>
            <a:xfrm>
              <a:off x="6171840" y="4130640"/>
              <a:ext cx="1371240" cy="45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1292"/>
            <p:cNvSpPr/>
            <p:nvPr/>
          </p:nvSpPr>
          <p:spPr>
            <a:xfrm>
              <a:off x="6171840" y="4737960"/>
              <a:ext cx="137124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1294"/>
            <p:cNvSpPr/>
            <p:nvPr/>
          </p:nvSpPr>
          <p:spPr>
            <a:xfrm>
              <a:off x="6171840" y="5345640"/>
              <a:ext cx="1371240" cy="45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62120" y="990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Fill in the organizational diagram for a generic Forward Support Company (FS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6248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eck your ans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85800" y="2404800"/>
            <a:ext cx="8152920" cy="3211920"/>
            <a:chOff x="685800" y="2404800"/>
            <a:chExt cx="8152920" cy="3211920"/>
          </a:xfrm>
        </p:grpSpPr>
        <p:cxnSp>
          <p:nvCxnSpPr>
            <p:cNvPr id="197" name="_s14342"/>
            <p:cNvCxnSpPr>
              <a:stCxn id="198" idx="1"/>
              <a:endCxn id="199" idx="2"/>
            </p:cNvCxnSpPr>
            <p:nvPr/>
          </p:nvCxnSpPr>
          <p:spPr>
            <a:xfrm rot="10800000">
              <a:off x="6555240" y="3198600"/>
              <a:ext cx="326520" cy="2190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14343"/>
            <p:cNvCxnSpPr>
              <a:stCxn id="201" idx="1"/>
              <a:endCxn id="199" idx="2"/>
            </p:cNvCxnSpPr>
            <p:nvPr/>
          </p:nvCxnSpPr>
          <p:spPr>
            <a:xfrm rot="10800000">
              <a:off x="6555240" y="3198600"/>
              <a:ext cx="326520" cy="1585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14344"/>
            <p:cNvCxnSpPr>
              <a:stCxn id="203" idx="1"/>
              <a:endCxn id="199" idx="2"/>
            </p:cNvCxnSpPr>
            <p:nvPr/>
          </p:nvCxnSpPr>
          <p:spPr>
            <a:xfrm rot="10800000">
              <a:off x="6555240" y="3198600"/>
              <a:ext cx="326520" cy="98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14345"/>
            <p:cNvCxnSpPr>
              <a:stCxn id="205" idx="1"/>
              <a:endCxn id="199" idx="2"/>
            </p:cNvCxnSpPr>
            <p:nvPr/>
          </p:nvCxnSpPr>
          <p:spPr>
            <a:xfrm rot="10800000">
              <a:off x="6555240" y="3198600"/>
              <a:ext cx="326520" cy="37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14346"/>
            <p:cNvCxnSpPr>
              <a:stCxn id="207" idx="1"/>
              <a:endCxn id="208" idx="2"/>
            </p:cNvCxnSpPr>
            <p:nvPr/>
          </p:nvCxnSpPr>
          <p:spPr>
            <a:xfrm rot="10800000">
              <a:off x="3946320" y="3198600"/>
              <a:ext cx="326520" cy="2190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4347"/>
            <p:cNvCxnSpPr>
              <a:stCxn id="210" idx="1"/>
              <a:endCxn id="208" idx="2"/>
            </p:cNvCxnSpPr>
            <p:nvPr/>
          </p:nvCxnSpPr>
          <p:spPr>
            <a:xfrm rot="10800000">
              <a:off x="3946320" y="3198600"/>
              <a:ext cx="326520" cy="1585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14348"/>
            <p:cNvCxnSpPr>
              <a:stCxn id="212" idx="1"/>
              <a:endCxn id="208" idx="2"/>
            </p:cNvCxnSpPr>
            <p:nvPr/>
          </p:nvCxnSpPr>
          <p:spPr>
            <a:xfrm rot="10800000">
              <a:off x="3946320" y="3198600"/>
              <a:ext cx="326520" cy="98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14349"/>
            <p:cNvCxnSpPr>
              <a:stCxn id="214" idx="1"/>
              <a:endCxn id="208" idx="2"/>
            </p:cNvCxnSpPr>
            <p:nvPr/>
          </p:nvCxnSpPr>
          <p:spPr>
            <a:xfrm rot="10800000">
              <a:off x="3946320" y="3198600"/>
              <a:ext cx="326520" cy="37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4350"/>
            <p:cNvCxnSpPr>
              <a:stCxn id="216" idx="0"/>
              <a:endCxn id="217" idx="2"/>
            </p:cNvCxnSpPr>
            <p:nvPr/>
          </p:nvCxnSpPr>
          <p:spPr>
            <a:xfrm flipV="1">
              <a:off x="1663560" y="3198600"/>
              <a:ext cx="2520" cy="150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4351"/>
            <p:cNvCxnSpPr>
              <a:stCxn id="199" idx="0"/>
              <a:endCxn id="219" idx="2"/>
            </p:cNvCxnSpPr>
            <p:nvPr/>
          </p:nvCxnSpPr>
          <p:spPr>
            <a:xfrm flipV="1" rot="16200000">
              <a:off x="5583240" y="1882800"/>
              <a:ext cx="150840" cy="1794600"/>
            </a:xfrm>
            <a:prstGeom prst="bentConnector3">
              <a:avLst>
                <a:gd name="adj1" fmla="val 492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14352"/>
            <p:cNvCxnSpPr>
              <a:stCxn id="208" idx="0"/>
              <a:endCxn id="219" idx="2"/>
            </p:cNvCxnSpPr>
            <p:nvPr/>
          </p:nvCxnSpPr>
          <p:spPr>
            <a:xfrm flipH="1" flipV="1" rot="5400000">
              <a:off x="4279320" y="2372400"/>
              <a:ext cx="150840" cy="815760"/>
            </a:xfrm>
            <a:prstGeom prst="bentConnector3">
              <a:avLst>
                <a:gd name="adj1" fmla="val 492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14353"/>
            <p:cNvCxnSpPr>
              <a:stCxn id="217" idx="0"/>
              <a:endCxn id="219" idx="2"/>
            </p:cNvCxnSpPr>
            <p:nvPr/>
          </p:nvCxnSpPr>
          <p:spPr>
            <a:xfrm flipH="1" flipV="1" rot="5400000">
              <a:off x="3137400" y="1230840"/>
              <a:ext cx="150840" cy="3098520"/>
            </a:xfrm>
            <a:prstGeom prst="bentConnector3">
              <a:avLst>
                <a:gd name="adj1" fmla="val 492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9" name="_s14354"/>
            <p:cNvSpPr/>
            <p:nvPr/>
          </p:nvSpPr>
          <p:spPr>
            <a:xfrm>
              <a:off x="3783600" y="2404800"/>
              <a:ext cx="1956600" cy="30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4355"/>
            <p:cNvSpPr/>
            <p:nvPr/>
          </p:nvSpPr>
          <p:spPr>
            <a:xfrm>
              <a:off x="685800" y="2855880"/>
              <a:ext cx="195660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Q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4356"/>
            <p:cNvSpPr/>
            <p:nvPr/>
          </p:nvSpPr>
          <p:spPr>
            <a:xfrm>
              <a:off x="2968560" y="2855880"/>
              <a:ext cx="195660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DIST PL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357"/>
            <p:cNvSpPr/>
            <p:nvPr/>
          </p:nvSpPr>
          <p:spPr>
            <a:xfrm>
              <a:off x="5577480" y="2855880"/>
              <a:ext cx="195660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AINT PL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14358"/>
            <p:cNvSpPr/>
            <p:nvPr/>
          </p:nvSpPr>
          <p:spPr>
            <a:xfrm>
              <a:off x="685800" y="3349440"/>
              <a:ext cx="1956600" cy="45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4359"/>
            <p:cNvSpPr/>
            <p:nvPr/>
          </p:nvSpPr>
          <p:spPr>
            <a:xfrm>
              <a:off x="4272840" y="3349440"/>
              <a:ext cx="1956600" cy="45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T H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4360"/>
            <p:cNvSpPr/>
            <p:nvPr/>
          </p:nvSpPr>
          <p:spPr>
            <a:xfrm>
              <a:off x="4272840" y="3953880"/>
              <a:ext cx="1956600" cy="45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L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4361"/>
            <p:cNvSpPr/>
            <p:nvPr/>
          </p:nvSpPr>
          <p:spPr>
            <a:xfrm>
              <a:off x="4272840" y="4557960"/>
              <a:ext cx="1956600" cy="45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 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4362"/>
            <p:cNvSpPr/>
            <p:nvPr/>
          </p:nvSpPr>
          <p:spPr>
            <a:xfrm>
              <a:off x="4272840" y="5162760"/>
              <a:ext cx="1956600" cy="45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GEN SUP S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4363"/>
            <p:cNvSpPr/>
            <p:nvPr/>
          </p:nvSpPr>
          <p:spPr>
            <a:xfrm>
              <a:off x="6882120" y="3349440"/>
              <a:ext cx="1956600" cy="45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T HQ 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14364"/>
            <p:cNvSpPr/>
            <p:nvPr/>
          </p:nvSpPr>
          <p:spPr>
            <a:xfrm>
              <a:off x="6882120" y="3953880"/>
              <a:ext cx="1956600" cy="45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AINT CTR SEC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4365"/>
            <p:cNvSpPr/>
            <p:nvPr/>
          </p:nvSpPr>
          <p:spPr>
            <a:xfrm>
              <a:off x="6882120" y="4557960"/>
              <a:ext cx="1956600" cy="45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RECOVERY SEC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366"/>
            <p:cNvSpPr/>
            <p:nvPr/>
          </p:nvSpPr>
          <p:spPr>
            <a:xfrm>
              <a:off x="6882120" y="5162760"/>
              <a:ext cx="1956600" cy="45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467480" y="6415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990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ic Forward Support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828800"/>
            <a:ext cx="2286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 are in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324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I 4-90.1  Slide #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ON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8960" y="1066680"/>
            <a:ext cx="8822160" cy="1972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Which staff officer is responsible for the synchronization of resources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commander’s priorities?  [Hint:  He has tasking authority to exec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support missions.]  Select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perations Officer (S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Support Company (FSC) Com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992400"/>
            <a:ext cx="8153280" cy="19148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Who is responsible for events that happen at the combat trains?  Select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C Com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SC Com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657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3505320"/>
            <a:ext cx="8153280" cy="36828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C.  Support Operations Officer (SPO)     Slides # 37, 43-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6095880"/>
            <a:ext cx="8076960" cy="368280"/>
          </a:xfrm>
          <a:prstGeom prst="rect">
            <a:avLst/>
          </a:prstGeom>
          <a:solidFill>
            <a:srgbClr val="d3ebe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 A.  S4                                                        Slide #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67480" y="6415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9:29:06Z</dcterms:created>
  <dc:creator>moorem2</dc:creator>
  <dc:description/>
  <dc:language>en-US</dc:language>
  <cp:lastModifiedBy>dusablonmc</cp:lastModifiedBy>
  <dcterms:modified xsi:type="dcterms:W3CDTF">2006-01-30T14:50:32Z</dcterms:modified>
  <cp:revision>62</cp:revision>
  <dc:subject/>
  <dc:title>CHECKS ON LEARNING</dc:title>
</cp:coreProperties>
</file>